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1C7-5BBE-4D7D-A4C0-1709260C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4EA-6AD0-43FE-A406-866C640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AD7-AF91-4F26-97D5-CB22C4FA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B82-DDB0-4556-A120-115F64EF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47C-453B-468E-92E2-34DFBF9C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B21-D6B3-41D2-9C16-F6E6849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6F0-7AB8-4BED-B09B-48D5152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31E-D3FF-417B-86D5-8E19766A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70A-40C0-43BB-A926-2AD2603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78A-E81A-459D-BC20-54720242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D2C-5727-4CEC-889F-4194E0B6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B7B-584E-47D6-86BF-E6B9CAB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710-9FC2-4A00-AC21-CF0F5327D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5.jpeg"/><Relationship Id="rId14" Type="http://schemas.openxmlformats.org/officeDocument/2006/relationships/image" Target="../media/image2.png"/><Relationship Id="rId15" Type="http://schemas.openxmlformats.org/officeDocument/2006/relationships/image" Target="../media/image5.jpe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1905120"/>
            <a:ext cx="7848720" cy="4059000"/>
            <a:chOff x="838080" y="1905120"/>
            <a:chExt cx="7848720" cy="4059000"/>
          </a:xfrm>
        </p:grpSpPr>
        <p:sp>
          <p:nvSpPr>
            <p:cNvPr id="42" name=""/>
            <p:cNvSpPr/>
            <p:nvPr/>
          </p:nvSpPr>
          <p:spPr>
            <a:xfrm>
              <a:off x="838080" y="1905120"/>
              <a:ext cx="7848720" cy="429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1. Dyskretyzacja obszaru obliczeniowego (węzły i elementy siatk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2895480" y="2576520"/>
            <a:ext cx="3308400" cy="338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2576520"/>
                      <a:ext cx="3308400" cy="338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1143000" y="380880"/>
            <a:ext cx="4343400" cy="947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bliczenia metodą elementów skończ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533520"/>
            <a:ext cx="26668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Preproce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38080" y="1905120"/>
            <a:ext cx="7848720" cy="4190760"/>
            <a:chOff x="838080" y="1905120"/>
            <a:chExt cx="7848720" cy="4190760"/>
          </a:xfrm>
        </p:grpSpPr>
        <p:graphicFrame>
          <p:nvGraphicFramePr>
            <p:cNvPr id="48" name=""/>
            <p:cNvGraphicFramePr/>
            <p:nvPr/>
          </p:nvGraphicFramePr>
          <p:xfrm>
            <a:off x="2743200" y="2514600"/>
            <a:ext cx="36576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2514600"/>
                      <a:ext cx="36576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838080" y="1905120"/>
              <a:ext cx="7848720" cy="4291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2. Właściwa numeracja numeracja węzłó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672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18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860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1905120"/>
            <a:ext cx="7848720" cy="4800600"/>
            <a:chOff x="838080" y="1905120"/>
            <a:chExt cx="7848720" cy="4800600"/>
          </a:xfrm>
        </p:grpSpPr>
        <p:grpSp>
          <p:nvGrpSpPr>
            <p:cNvPr id="57" name=""/>
            <p:cNvGrpSpPr/>
            <p:nvPr/>
          </p:nvGrpSpPr>
          <p:grpSpPr>
            <a:xfrm>
              <a:off x="2666880" y="2438280"/>
              <a:ext cx="4038480" cy="4267440"/>
              <a:chOff x="2666880" y="2438280"/>
              <a:chExt cx="4038480" cy="4267440"/>
            </a:xfrm>
          </p:grpSpPr>
          <p:sp>
            <p:nvSpPr>
              <p:cNvPr id="58" name=""/>
              <p:cNvSpPr/>
              <p:nvPr/>
            </p:nvSpPr>
            <p:spPr>
              <a:xfrm>
                <a:off x="2666880" y="2438280"/>
                <a:ext cx="4038480" cy="426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3124080" y="2590920"/>
                    <a:ext cx="3200400" cy="74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3200040" y="3657600"/>
                    <a:ext cx="281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]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ϕ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ϕ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ϕ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" name=""/>
              <p:cNvSpPr/>
              <p:nvPr/>
            </p:nvSpPr>
            <p:spPr>
              <a:xfrm>
                <a:off x="2742840" y="3505320"/>
                <a:ext cx="16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zy czym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4800240" y="4952880"/>
                    <a:ext cx="175284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200040" y="5181480"/>
                    <a:ext cx="106704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" name=""/>
                  <p:cNvSpPr txBox="1"/>
                  <p:nvPr/>
                </p:nvSpPr>
                <p:spPr>
                  <a:xfrm>
                    <a:off x="3200040" y="5562720"/>
                    <a:ext cx="106704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3200040" y="4724280"/>
                    <a:ext cx="160020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838080" y="1905120"/>
              <a:ext cx="7848720" cy="4291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3. Wprowadzenie </a:t>
              </a:r>
              <a:r>
                <a:rPr b="1" lang="en-US" sz="2200" spc="-1" strike="noStrike">
                  <a:solidFill>
                    <a:srgbClr val="800000"/>
                  </a:solidFill>
                  <a:latin typeface="Times New Roman"/>
                </a:rPr>
                <a:t>funkcji kształt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38080" y="1905120"/>
            <a:ext cx="7848720" cy="4800240"/>
            <a:chOff x="838080" y="1905120"/>
            <a:chExt cx="7848720" cy="4800240"/>
          </a:xfrm>
        </p:grpSpPr>
        <p:sp>
          <p:nvSpPr>
            <p:cNvPr id="68" name=""/>
            <p:cNvSpPr/>
            <p:nvPr/>
          </p:nvSpPr>
          <p:spPr>
            <a:xfrm>
              <a:off x="838080" y="1905120"/>
              <a:ext cx="7848720" cy="4291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4. Lokalna i globalna </a:t>
              </a:r>
              <a:r>
                <a:rPr b="1" lang="en-US" sz="2200" spc="-1" strike="noStrike">
                  <a:solidFill>
                    <a:srgbClr val="800000"/>
                  </a:solidFill>
                  <a:latin typeface="Times New Roman"/>
                </a:rPr>
                <a:t>macierz sztywnośc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2438280"/>
              <a:ext cx="6095880" cy="4267080"/>
              <a:chOff x="1523880" y="2438280"/>
              <a:chExt cx="6095880" cy="426708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2438280"/>
                <a:ext cx="6095880" cy="42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600200" y="2809080"/>
                    <a:ext cx="5943600" cy="142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Δ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" name=""/>
                  <p:cNvSpPr txBox="1"/>
                  <p:nvPr/>
                </p:nvSpPr>
                <p:spPr>
                  <a:xfrm>
                    <a:off x="2057400" y="4664880"/>
                    <a:ext cx="1371600" cy="102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3" name=""/>
                  <p:cNvSpPr txBox="1"/>
                  <p:nvPr/>
                </p:nvSpPr>
                <p:spPr>
                  <a:xfrm>
                    <a:off x="4267080" y="5128560"/>
                    <a:ext cx="1981080" cy="107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Hϕ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4" name=""/>
              <p:cNvSpPr/>
              <p:nvPr/>
            </p:nvSpPr>
            <p:spPr>
              <a:xfrm>
                <a:off x="4190760" y="4571640"/>
                <a:ext cx="304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związujemy równani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838080" y="1905120"/>
            <a:ext cx="7848720" cy="4800240"/>
            <a:chOff x="838080" y="1905120"/>
            <a:chExt cx="7848720" cy="4800240"/>
          </a:xfrm>
        </p:grpSpPr>
        <p:sp>
          <p:nvSpPr>
            <p:cNvPr id="76" name=""/>
            <p:cNvSpPr/>
            <p:nvPr/>
          </p:nvSpPr>
          <p:spPr>
            <a:xfrm>
              <a:off x="838080" y="1905120"/>
              <a:ext cx="7848720" cy="4291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5. Wprowadzanie warunków brzegowy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295280" y="2438280"/>
              <a:ext cx="6324480" cy="4267080"/>
              <a:chOff x="1295280" y="2438280"/>
              <a:chExt cx="6324480" cy="4267080"/>
            </a:xfrm>
          </p:grpSpPr>
          <p:sp>
            <p:nvSpPr>
              <p:cNvPr id="78" name=""/>
              <p:cNvSpPr/>
              <p:nvPr/>
            </p:nvSpPr>
            <p:spPr>
              <a:xfrm>
                <a:off x="1295280" y="2438280"/>
                <a:ext cx="6324480" cy="42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47560" y="2619720"/>
                <a:ext cx="5867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y wprowadzić warunki brzegowe do układu równań można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23880" y="3800160"/>
                <a:ext cx="586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yeliminować z niego te równania które opisują węzły o znanej wartości wielkości poszukiwanej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23880" y="5070960"/>
                <a:ext cx="5867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- e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ementy diagonali macierzy 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związane z określonym węzłem brzegowym pomnożyć przez dużą liczbę (np. 10</a:t>
                </a:r>
                <a:r>
                  <a:rPr b="0" lang="pl-PL" sz="1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wartość iloczynu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</a:rPr>
                  <a:t>wpisać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 odpowiednią pozycję zerowego wektora tworzącego prawą stronę układu równań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6172200" y="533520"/>
            <a:ext cx="2666880" cy="64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roce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905120"/>
            <a:ext cx="7848720" cy="42912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</a:rPr>
              <a:t>6. Rozwiązanie algebraicznego układu równa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33520"/>
            <a:ext cx="2895480" cy="64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Postproce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905120"/>
            <a:ext cx="7848720" cy="429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7. Przetwarzanie i wizualizacja otrzymanych wynikó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438280"/>
            <a:ext cx="632484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498760"/>
            <a:ext cx="632448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tody bezpośrednie - dają rozwiązanie za skończoną liczbę kroków; wykorzystują dekompozycję Gaussa, Choleskiego itd. Podstawowa niedogodność stosowania metod bezpośrednich dla macierzy rzadkich to pojawianie się nowych niezerowych elementów w macierzy w trakcie obliczeń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ang. fill-in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tody iteracyjne - polegają na iteracyjnym ulepszaniu przybliżonego rozwiązania do momentu osiągnięcia zadawalającej dokładności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362320"/>
            <a:ext cx="6553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36576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ficzna ilustracja wynik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33720" y="228600"/>
            <a:ext cx="52578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mplementacja MES w MATLAB’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00200"/>
            <a:ext cx="70106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8c00"/>
                </a:solidFill>
                <a:latin typeface="Times New Roman"/>
              </a:rPr>
              <a:t>Zadawanie ilości węzłów siatki obliczeniowej w poziomie i w pio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rcRect l="38281" t="33337" r="29687" b="18753"/>
          <a:stretch/>
        </p:blipFill>
        <p:spPr>
          <a:xfrm>
            <a:off x="1905120" y="2133720"/>
            <a:ext cx="3938400" cy="441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43600" y="342900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4724280"/>
            <a:ext cx="1905120" cy="381240"/>
          </a:xfrm>
          <a:prstGeom prst="leftArrow">
            <a:avLst>
              <a:gd name="adj1" fmla="val 50000"/>
              <a:gd name="adj2" fmla="val 1249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5867280"/>
            <a:ext cx="1905120" cy="381240"/>
          </a:xfrm>
          <a:prstGeom prst="leftArrow">
            <a:avLst>
              <a:gd name="adj1" fmla="val 50000"/>
              <a:gd name="adj2" fmla="val 1249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600200"/>
            <a:ext cx="7010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8c00"/>
                </a:solidFill>
                <a:latin typeface="Times New Roman"/>
              </a:rPr>
              <a:t>Zadawanie rozmiarów obszaru obliczeniowego w centymet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7010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8c00"/>
                </a:solidFill>
                <a:latin typeface="Times New Roman"/>
              </a:rPr>
              <a:t>Przejście do generatora siatki obliczeniow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990720"/>
            <a:ext cx="701064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6e00"/>
                </a:solidFill>
                <a:latin typeface="Times New Roman"/>
              </a:rPr>
              <a:t>Parametry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33720" y="228600"/>
            <a:ext cx="52578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mplementacja MES w MATLAB’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838080"/>
            <a:ext cx="70102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6e00"/>
                </a:solidFill>
                <a:latin typeface="Times New Roman"/>
              </a:rPr>
              <a:t>Wygenerowana siatka obliczeń (7x7 węzł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rcRect l="32031" t="15627" r="16405" b="7294"/>
          <a:stretch/>
        </p:blipFill>
        <p:spPr>
          <a:xfrm>
            <a:off x="1219320" y="1371600"/>
            <a:ext cx="4757760" cy="533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19320" y="838080"/>
            <a:ext cx="7010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6e00"/>
                </a:solidFill>
                <a:latin typeface="Times New Roman"/>
              </a:rPr>
              <a:t>Zadane wartości potencj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590920"/>
            <a:ext cx="205740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    )=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27432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352680"/>
            <a:ext cx="20574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    )=1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3623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60199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5053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3720" y="228600"/>
            <a:ext cx="52578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mplementacja MES w MATLAB’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rcRect l="28908" t="15627" r="14065" b="16666"/>
          <a:stretch/>
        </p:blipFill>
        <p:spPr>
          <a:xfrm>
            <a:off x="2666880" y="1523880"/>
            <a:ext cx="5562720" cy="495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838080"/>
            <a:ext cx="7010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96e00"/>
                </a:solidFill>
                <a:latin typeface="Times New Roman"/>
              </a:rPr>
              <a:t>Szpieg rzadkiej macierzy sztwn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2209680"/>
            <a:ext cx="6400800" cy="3200400"/>
            <a:chOff x="457200" y="2209680"/>
            <a:chExt cx="6400800" cy="3200400"/>
          </a:xfrm>
        </p:grpSpPr>
        <p:sp>
          <p:nvSpPr>
            <p:cNvPr id="113" name=""/>
            <p:cNvSpPr/>
            <p:nvPr/>
          </p:nvSpPr>
          <p:spPr>
            <a:xfrm>
              <a:off x="457200" y="3124080"/>
              <a:ext cx="2133720" cy="824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496e00"/>
                  </a:solidFill>
                  <a:latin typeface="Times New Roman"/>
                </a:rPr>
                <a:t>Niepasmowość – wynik przyjętego sposobu numeracj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4876920"/>
              <a:ext cx="3429000" cy="533160"/>
            </a:xfrm>
            <a:custGeom>
              <a:avLst/>
              <a:gdLst>
                <a:gd name="textAreaLeft" fmla="*/ 680400 w 3429000"/>
                <a:gd name="textAreaRight" fmla="*/ 2431080 w 3429000"/>
                <a:gd name="textAreaTop" fmla="*/ 71280 h 533160"/>
                <a:gd name="textAreaBottom" fmla="*/ 4618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75" hR="21600" stAng="10800000" swAng="-5400000"/>
                  <a:lnTo>
                    <a:pt x="11025" y="21600"/>
                  </a:lnTo>
                  <a:arcTo wR="8575" hR="21600" stAng="5400000" swAng="-2898736"/>
                  <a:lnTo>
                    <a:pt x="21110" y="7200"/>
                  </a:lnTo>
                  <a:lnTo>
                    <a:pt x="18375" y="0"/>
                  </a:lnTo>
                  <a:lnTo>
                    <a:pt x="14660" y="7200"/>
                  </a:lnTo>
                  <a:lnTo>
                    <a:pt x="16660" y="7200"/>
                  </a:lnTo>
                  <a:arcTo wR="8575" hR="21600" stAng="2501264" swAng="2701966"/>
                  <a:lnTo>
                    <a:pt x="9800" y="21378"/>
                  </a:lnTo>
                  <a:arcTo wR="8575" hR="21600" stAng="5596770" swAng="5203230"/>
                  <a:close/>
                </a:path>
                <a:path fill="darkenLess" w="21600" h="21600">
                  <a:moveTo>
                    <a:pt x="0" y="0"/>
                  </a:moveTo>
                  <a:arcTo wR="8575" hR="21600" stAng="10800000" swAng="-5400000"/>
                  <a:lnTo>
                    <a:pt x="11025" y="21600"/>
                  </a:lnTo>
                  <a:arcTo wR="8575" hR="21600" stAng="5400000" swAng="196770"/>
                  <a:lnTo>
                    <a:pt x="9800" y="21378"/>
                  </a:lnTo>
                  <a:arcTo wR="8575" hR="21600" stAng="5596770" swAng="520323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5280" y="2209680"/>
              <a:ext cx="5562720" cy="381240"/>
            </a:xfrm>
            <a:custGeom>
              <a:avLst/>
              <a:gdLst>
                <a:gd name="textAreaLeft" fmla="*/ 1060200 w 5562720"/>
                <a:gd name="textAreaRight" fmla="*/ 3932280 w 556272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236" hR="21600" stAng="10800000" swAng="5400000"/>
                  <a:lnTo>
                    <a:pt x="11152" y="0"/>
                  </a:lnTo>
                  <a:arcTo wR="8236" hR="21600" stAng="-5400000" swAng="2468440"/>
                  <a:lnTo>
                    <a:pt x="20912" y="12960"/>
                  </a:lnTo>
                  <a:lnTo>
                    <a:pt x="17929" y="21600"/>
                  </a:lnTo>
                  <a:lnTo>
                    <a:pt x="13570" y="12960"/>
                  </a:lnTo>
                  <a:lnTo>
                    <a:pt x="15783" y="12960"/>
                  </a:lnTo>
                  <a:arcTo wR="8236" hR="21600" stAng="-2931560" swAng="-2233037"/>
                  <a:lnTo>
                    <a:pt x="9694" y="341"/>
                  </a:lnTo>
                  <a:arcTo wR="8236" hR="21600" stAng="-5635404" swAng="-5164596"/>
                  <a:close/>
                </a:path>
                <a:path fill="darkenLess" w="21600" h="21600">
                  <a:moveTo>
                    <a:pt x="0" y="21600"/>
                  </a:moveTo>
                  <a:arcTo wR="8236" hR="21600" stAng="10800000" swAng="5400000"/>
                  <a:lnTo>
                    <a:pt x="8236" y="0"/>
                  </a:lnTo>
                  <a:arcTo wR="8236" hR="21600" stAng="-5400000" swAng="235404"/>
                  <a:lnTo>
                    <a:pt x="9694" y="341"/>
                  </a:lnTo>
                  <a:arcTo wR="8236" hR="21600" stAng="-5635404" swAng="-516459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33720" y="228600"/>
            <a:ext cx="52578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mplementacja MES w MATLAB’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838080"/>
            <a:ext cx="70102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6e00"/>
                </a:solidFill>
                <a:latin typeface="Times New Roman"/>
              </a:rPr>
              <a:t>Wynik obliczeń omawianego przy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3127" t="19791" r="3127" b="12502"/>
          <a:stretch/>
        </p:blipFill>
        <p:spPr>
          <a:xfrm>
            <a:off x="914400" y="1676520"/>
            <a:ext cx="80010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3:49:38Z</dcterms:created>
  <dc:creator>Jacek</dc:creator>
  <dc:description/>
  <dc:language>en-US</dc:language>
  <cp:lastModifiedBy>Jacek</cp:lastModifiedBy>
  <dcterms:modified xsi:type="dcterms:W3CDTF">2004-04-14T07:50:50Z</dcterms:modified>
  <cp:revision>24</cp:revision>
  <dc:subject/>
  <dc:title>Prezentacja programu PowerPoint</dc:title>
</cp:coreProperties>
</file>