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50.png" ContentType="image/png"/>
  <Override PartName="/ppt/media/image13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4DE5-CEE2-461D-BF27-28B12AD2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8C03-FF0F-4A67-AD11-F8642191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A4FA-57CD-44C4-9858-FF399301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B7F5-FFE0-4660-A729-67AF5D41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4FE1-399A-47EF-ABB5-006B89AB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C77D-ADE6-432F-A3E2-AD89F3F0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84DE-64C2-4EB5-8B16-98AD6E52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87ED-A582-43D5-8244-2480A5F4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64A7-10F4-4EF0-8CDB-3107C4DC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865-4F52-48FC-8D4A-77B71BDB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D9A1-7FA0-4718-AEFB-71E26EB1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4849-73D7-4B0C-9D4D-6E50ECE3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3FB6-47FB-4814-8CCA-CB2A06506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png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png"/><Relationship Id="rId4" Type="http://schemas.openxmlformats.org/officeDocument/2006/relationships/slide" Target="slide4.xml"/><Relationship Id="rId5" Type="http://schemas.openxmlformats.org/officeDocument/2006/relationships/oleObject" Target="../embeddings/oleObject2.bin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png"/><Relationship Id="rId8" Type="http://schemas.openxmlformats.org/officeDocument/2006/relationships/slide" Target="slide4.xm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oleObject" Target="../embeddings/oleObject2.bin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oleObject" Target="../embeddings/oleObject1.bin"/><Relationship Id="rId20" Type="http://schemas.openxmlformats.org/officeDocument/2006/relationships/image" Target="../media/image36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_PO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380880"/>
            <a:ext cx="5786640" cy="6172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0" r="68074" b="0"/>
          <a:stretch/>
        </p:blipFill>
        <p:spPr>
          <a:xfrm>
            <a:off x="304920" y="533520"/>
            <a:ext cx="2743200" cy="5754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0" t="0" r="67201" b="0"/>
          <a:stretch/>
        </p:blipFill>
        <p:spPr>
          <a:xfrm>
            <a:off x="304920" y="533520"/>
            <a:ext cx="2743200" cy="5736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19520" y="8380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Femm  + Be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388620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delowanie zagadnień polowych z wykorzystaniem metody elementów skończo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logo_PO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380880"/>
            <a:ext cx="5786640" cy="617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457200" y="304920"/>
          <a:ext cx="8234280" cy="570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04920"/>
                    <a:ext cx="82342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>
            <a:hlinkClick r:id="rId4" action="ppaction://hlinksldjump"/>
          </p:cNvPr>
          <p:cNvSpPr/>
          <p:nvPr/>
        </p:nvSpPr>
        <p:spPr>
          <a:xfrm>
            <a:off x="4343400" y="6172200"/>
            <a:ext cx="762120" cy="304920"/>
          </a:xfrm>
          <a:custGeom>
            <a:avLst/>
            <a:gdLst>
              <a:gd name="textAreaLeft" fmla="*/ 76320 w 762120"/>
              <a:gd name="textAreaRight" fmla="*/ 686160 w 7621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48549" y="5400"/>
                </a:lnTo>
                <a:lnTo>
                  <a:pt x="5400" y="5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48549" y="16200"/>
                </a:lnTo>
                <a:lnTo>
                  <a:pt x="48549" y="5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48549" y="16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53949" h="21600">
                <a:moveTo>
                  <a:pt x="22950" y="10800"/>
                </a:moveTo>
                <a:lnTo>
                  <a:pt x="31000" y="6775"/>
                </a:lnTo>
                <a:lnTo>
                  <a:pt x="31000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logo_PO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380880"/>
            <a:ext cx="5786640" cy="617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457200" y="304920"/>
          <a:ext cx="8265960" cy="573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04920"/>
                    <a:ext cx="826596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>
            <a:hlinkClick r:id="rId4" action="ppaction://hlinksldjump"/>
          </p:cNvPr>
          <p:cNvSpPr/>
          <p:nvPr/>
        </p:nvSpPr>
        <p:spPr>
          <a:xfrm>
            <a:off x="4343400" y="6172200"/>
            <a:ext cx="990720" cy="304920"/>
          </a:xfrm>
          <a:custGeom>
            <a:avLst/>
            <a:gdLst>
              <a:gd name="textAreaLeft" fmla="*/ 76320 w 990720"/>
              <a:gd name="textAreaRight" fmla="*/ 91476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70124" h="21600">
                <a:moveTo>
                  <a:pt x="0" y="0"/>
                </a:moveTo>
                <a:lnTo>
                  <a:pt x="70124" y="0"/>
                </a:lnTo>
                <a:lnTo>
                  <a:pt x="70124" y="21600"/>
                </a:lnTo>
                <a:lnTo>
                  <a:pt x="0" y="21600"/>
                </a:lnTo>
                <a:close/>
              </a:path>
              <a:path fill="lightenLess" w="70124" h="21600">
                <a:moveTo>
                  <a:pt x="0" y="0"/>
                </a:moveTo>
                <a:lnTo>
                  <a:pt x="70124" y="0"/>
                </a:lnTo>
                <a:lnTo>
                  <a:pt x="64724" y="5400"/>
                </a:lnTo>
                <a:lnTo>
                  <a:pt x="5400" y="5400"/>
                </a:lnTo>
                <a:close/>
              </a:path>
              <a:path fill="darken" w="70124" h="21600">
                <a:moveTo>
                  <a:pt x="70124" y="0"/>
                </a:moveTo>
                <a:lnTo>
                  <a:pt x="70124" y="21600"/>
                </a:lnTo>
                <a:lnTo>
                  <a:pt x="64724" y="16200"/>
                </a:lnTo>
                <a:lnTo>
                  <a:pt x="64724" y="5400"/>
                </a:lnTo>
                <a:close/>
              </a:path>
              <a:path fill="darkenLess" w="70124" h="21600">
                <a:moveTo>
                  <a:pt x="70124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4724" y="16200"/>
                </a:lnTo>
                <a:close/>
              </a:path>
              <a:path fill="lighten" w="70124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70124" h="21600">
                <a:moveTo>
                  <a:pt x="31037" y="10800"/>
                </a:moveTo>
                <a:lnTo>
                  <a:pt x="39087" y="6775"/>
                </a:lnTo>
                <a:lnTo>
                  <a:pt x="39087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" y="304920"/>
          <a:ext cx="8275680" cy="573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304920"/>
                    <a:ext cx="827568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logo_PO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380880"/>
            <a:ext cx="5786640" cy="617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"/>
          <p:cNvGraphicFramePr/>
          <p:nvPr/>
        </p:nvGraphicFramePr>
        <p:xfrm>
          <a:off x="457200" y="380880"/>
          <a:ext cx="8265960" cy="572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80880"/>
                    <a:ext cx="8265960" cy="57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57200" y="380880"/>
          <a:ext cx="8247240" cy="5734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80880"/>
                    <a:ext cx="824724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57200" y="380880"/>
          <a:ext cx="8256600" cy="5724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80880"/>
                    <a:ext cx="8256600" cy="57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>
            <a:hlinkClick r:id="rId8" action="ppaction://hlinksldjump"/>
          </p:cNvPr>
          <p:cNvSpPr/>
          <p:nvPr/>
        </p:nvSpPr>
        <p:spPr>
          <a:xfrm>
            <a:off x="4191120" y="6172200"/>
            <a:ext cx="914400" cy="304920"/>
          </a:xfrm>
          <a:custGeom>
            <a:avLst/>
            <a:gdLst>
              <a:gd name="textAreaLeft" fmla="*/ 76320 w 914400"/>
              <a:gd name="textAreaRight" fmla="*/ 83844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64724" h="21600">
                <a:moveTo>
                  <a:pt x="0" y="0"/>
                </a:moveTo>
                <a:lnTo>
                  <a:pt x="64724" y="0"/>
                </a:lnTo>
                <a:lnTo>
                  <a:pt x="64724" y="21600"/>
                </a:lnTo>
                <a:lnTo>
                  <a:pt x="0" y="21600"/>
                </a:lnTo>
                <a:close/>
              </a:path>
              <a:path fill="lightenLess" w="64724" h="21600">
                <a:moveTo>
                  <a:pt x="0" y="0"/>
                </a:moveTo>
                <a:lnTo>
                  <a:pt x="64724" y="0"/>
                </a:lnTo>
                <a:lnTo>
                  <a:pt x="59324" y="5400"/>
                </a:lnTo>
                <a:lnTo>
                  <a:pt x="5400" y="5400"/>
                </a:lnTo>
                <a:close/>
              </a:path>
              <a:path fill="darken" w="64724" h="21600">
                <a:moveTo>
                  <a:pt x="64724" y="0"/>
                </a:moveTo>
                <a:lnTo>
                  <a:pt x="64724" y="21600"/>
                </a:lnTo>
                <a:lnTo>
                  <a:pt x="59324" y="16200"/>
                </a:lnTo>
                <a:lnTo>
                  <a:pt x="59324" y="5400"/>
                </a:lnTo>
                <a:close/>
              </a:path>
              <a:path fill="darkenLess" w="64724" h="21600">
                <a:moveTo>
                  <a:pt x="64724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59324" y="16200"/>
                </a:lnTo>
                <a:close/>
              </a:path>
              <a:path fill="lighten" w="64724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64724" h="21600">
                <a:moveTo>
                  <a:pt x="28337" y="10800"/>
                </a:moveTo>
                <a:lnTo>
                  <a:pt x="36387" y="6775"/>
                </a:lnTo>
                <a:lnTo>
                  <a:pt x="36387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ogo_PO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380880"/>
            <a:ext cx="5786640" cy="6172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14600" y="9144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cc"/>
                </a:solidFill>
                <a:uFillTx/>
                <a:latin typeface="Times New Roman"/>
              </a:rPr>
              <a:t>STRUKTURA PROGRA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8255400">
            <a:off x="2666880" y="1828440"/>
            <a:ext cx="1067040" cy="380880"/>
          </a:xfrm>
          <a:prstGeom prst="rightArrow">
            <a:avLst>
              <a:gd name="adj1" fmla="val 50000"/>
              <a:gd name="adj2" fmla="val 700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398800">
            <a:off x="3923640" y="1866600"/>
            <a:ext cx="1067040" cy="381240"/>
          </a:xfrm>
          <a:prstGeom prst="rightArrow">
            <a:avLst>
              <a:gd name="adj1" fmla="val 50000"/>
              <a:gd name="adj2" fmla="val 699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3225000">
            <a:off x="5142960" y="1866600"/>
            <a:ext cx="1067040" cy="380880"/>
          </a:xfrm>
          <a:prstGeom prst="rightArrow">
            <a:avLst>
              <a:gd name="adj1" fmla="val 50000"/>
              <a:gd name="adj2" fmla="val 700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895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PREPROCE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2895480"/>
            <a:ext cx="236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PROCE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28954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POSTPROCE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3352680"/>
            <a:ext cx="28954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ysowanie końców prost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 łuków w celu utworz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0" lang="pl-PL" sz="12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„</a:t>
            </a:r>
            <a:r>
              <a:rPr b="0" lang="en-GB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zkieletu” rysunku;</a:t>
            </a:r>
            <a:r>
              <a:rPr b="0" lang="pl-PL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4191120"/>
            <a:ext cx="20574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0066"/>
                </a:solidFill>
                <a:latin typeface="Times New Roman"/>
              </a:rPr>
              <a:t>ł</a:t>
            </a:r>
            <a:r>
              <a:rPr b="0" lang="en-GB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ączenie punktów łukami i </a:t>
            </a:r>
            <a:r>
              <a:rPr b="0" lang="pl-PL" sz="1200" spc="-1" strike="noStrike">
                <a:solidFill>
                  <a:srgbClr val="ff0066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krzywymi;</a:t>
            </a:r>
            <a:r>
              <a:rPr b="0" lang="pl-PL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4724280"/>
            <a:ext cx="23623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definiowanie parametró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materiałowych i rozmiaró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iatki obliczeniowej każde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obszaru stworzonego rysunku;</a:t>
            </a:r>
            <a:r>
              <a:rPr b="0" lang="pl-PL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5867280"/>
            <a:ext cx="2133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określanie warunkó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rzegowych.</a:t>
            </a:r>
            <a:r>
              <a:rPr b="0" lang="pl-PL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20954" t="5591" r="76869" b="91609"/>
          <a:stretch/>
        </p:blipFill>
        <p:spPr>
          <a:xfrm>
            <a:off x="4191120" y="4495680"/>
            <a:ext cx="247680" cy="238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rcRect l="23205" t="5591" r="74602" b="91609"/>
          <a:stretch/>
        </p:blipFill>
        <p:spPr>
          <a:xfrm>
            <a:off x="6248520" y="3352680"/>
            <a:ext cx="24768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rcRect l="18780" t="5591" r="79031" b="91609"/>
          <a:stretch/>
        </p:blipFill>
        <p:spPr>
          <a:xfrm>
            <a:off x="4191120" y="3429000"/>
            <a:ext cx="247680" cy="237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124080" y="3733920"/>
            <a:ext cx="2362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uruchomienie generatora siatk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obliczeniowej</a:t>
            </a:r>
            <a:r>
              <a:rPr b="0" lang="pl-PL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yellow mesh)</a:t>
            </a:r>
            <a:r>
              <a:rPr b="0" lang="pl-PL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800600"/>
            <a:ext cx="1905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uruchomienie solwera </a:t>
            </a:r>
            <a:r>
              <a:rPr b="0" lang="pl-PL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kern.exe (hand-crank)</a:t>
            </a:r>
            <a:r>
              <a:rPr b="0" lang="pl-PL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3733920"/>
            <a:ext cx="22096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uruchomienie postproces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o zakończeniu obliczeń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66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big magnifying glass)</a:t>
            </a:r>
            <a:r>
              <a:rPr b="0" lang="pl-PL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logo_PO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380880"/>
            <a:ext cx="5786640" cy="6172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2120" y="38088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6600"/>
                </a:solidFill>
                <a:uFillTx/>
                <a:latin typeface="Times New Roman"/>
              </a:rPr>
              <a:t>Tworzenie geometrii modelu obliczeniowego  na przykładzie cewki toroidalne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CEWKA_DOKŁADNIE_prz" descr=""/>
          <p:cNvPicPr/>
          <p:nvPr/>
        </p:nvPicPr>
        <p:blipFill>
          <a:blip r:embed="rId2"/>
          <a:srcRect l="13402" t="0" r="27048" b="0"/>
          <a:stretch/>
        </p:blipFill>
        <p:spPr>
          <a:xfrm>
            <a:off x="304920" y="762120"/>
            <a:ext cx="2466720" cy="312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2895480" y="2438280"/>
          <a:ext cx="6015240" cy="417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2438280"/>
                    <a:ext cx="6015240" cy="41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581280" y="99072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cc99"/>
                </a:solidFill>
                <a:latin typeface="Times New Roman"/>
              </a:rPr>
              <a:t>1. Import pliku .DXF z AutoC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137160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2. Określanie granic obszaru obliczeniow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276720" y="3048120"/>
            <a:ext cx="5505480" cy="3324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3276720" y="3048120"/>
            <a:ext cx="5505480" cy="3324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3276720" y="3048120"/>
            <a:ext cx="5505480" cy="3324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3276720" y="3048120"/>
            <a:ext cx="5505480" cy="3324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3276720" y="3048120"/>
            <a:ext cx="5505480" cy="3324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3276720" y="3048120"/>
            <a:ext cx="5505480" cy="3324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3276720" y="3048120"/>
            <a:ext cx="5505480" cy="3324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2"/>
          <a:stretch/>
        </p:blipFill>
        <p:spPr>
          <a:xfrm>
            <a:off x="3276720" y="3048120"/>
            <a:ext cx="5505480" cy="3324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581280" y="175248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3. Definicja materiałów dla poszczególnych  obszaró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3"/>
          <a:stretch/>
        </p:blipFill>
        <p:spPr>
          <a:xfrm>
            <a:off x="3276720" y="3048120"/>
            <a:ext cx="5505480" cy="3324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4"/>
          <a:stretch/>
        </p:blipFill>
        <p:spPr>
          <a:xfrm>
            <a:off x="3276720" y="3048120"/>
            <a:ext cx="5505480" cy="3324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5"/>
          <a:stretch/>
        </p:blipFill>
        <p:spPr>
          <a:xfrm>
            <a:off x="3276720" y="3048120"/>
            <a:ext cx="5505480" cy="332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457200" y="4114800"/>
          <a:ext cx="2286000" cy="1951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57200" y="4114800"/>
                    <a:ext cx="228600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logo_PO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380880"/>
            <a:ext cx="5786640" cy="6172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62120" y="5335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6600"/>
                </a:solidFill>
                <a:uFillTx/>
                <a:latin typeface="Times New Roman"/>
              </a:rPr>
              <a:t>Warunki brzego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9144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cc99"/>
                </a:solidFill>
                <a:latin typeface="Times New Roman"/>
              </a:rPr>
              <a:t>1. </a:t>
            </a:r>
            <a:r>
              <a:rPr b="1" lang="pl-PL" sz="1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‘Prescribed A’ – zadawanie potencjału wektorowego wzdłuż zadanej granicy;</a:t>
            </a:r>
            <a:r>
              <a:rPr b="1" lang="pl-PL" sz="1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52388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cc99"/>
                </a:solidFill>
                <a:latin typeface="Times New Roman"/>
              </a:rPr>
              <a:t>2. </a:t>
            </a:r>
            <a:r>
              <a:rPr b="1" lang="pl-PL" sz="1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‘Small Skin Depth’ – zadawanie warunków brzegowych z uwzględnieniem głębokości wnikania materiału;</a:t>
            </a:r>
            <a:r>
              <a:rPr b="1" lang="pl-PL" sz="1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27672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cc99"/>
                </a:solidFill>
                <a:latin typeface="Times New Roman"/>
              </a:rPr>
              <a:t>3. </a:t>
            </a:r>
            <a:r>
              <a:rPr b="1" lang="pl-PL" sz="1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‘Mixed’ – warunki brzegowe Robina oraz Neumanna;</a:t>
            </a:r>
            <a:r>
              <a:rPr b="1" lang="pl-PL" sz="1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26708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cc99"/>
                </a:solidFill>
                <a:latin typeface="Times New Roman"/>
              </a:rPr>
              <a:t>4. </a:t>
            </a:r>
            <a:r>
              <a:rPr b="1" lang="pl-PL" sz="1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‘Strategic Dual Image’ – otwarte warunki brzegowe redefiniowane w procesorze raz jako warunki Dirichleta a następnie jako warunki Neumanna;</a:t>
            </a:r>
            <a:r>
              <a:rPr b="1" lang="pl-PL" sz="1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876920"/>
            <a:ext cx="723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cc99"/>
                </a:solidFill>
                <a:latin typeface="Times New Roman"/>
              </a:rPr>
              <a:t>5. </a:t>
            </a:r>
            <a:r>
              <a:rPr b="1" lang="pl-PL" sz="1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‘Periodic’ – stosowane dla dwóch linii (łuków) gdy potencjał wektorowy powinien być stały wzdłuż całej zaznaczonej granicy;</a:t>
            </a:r>
            <a:r>
              <a:rPr b="1" lang="pl-PL" sz="1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55627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cc99"/>
                </a:solidFill>
                <a:latin typeface="Times New Roman"/>
              </a:rPr>
              <a:t>6. </a:t>
            </a:r>
            <a:r>
              <a:rPr b="1" lang="pl-PL" sz="1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‘Antiperiodic’ - stosowane dla dwóch linii (łuków) gdy potencjał wektorowy jednej z nich powinien być przeciwny względem potencjału drugiej.</a:t>
            </a:r>
            <a:r>
              <a:rPr b="1" lang="pl-PL" sz="1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124080" y="1295280"/>
                <a:ext cx="2971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ϕ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200400" y="1905120"/>
                <a:ext cx="27097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ϖ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429000" y="3657600"/>
                <a:ext cx="22096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6172200" y="1295280"/>
            <a:ext cx="457200" cy="304920"/>
          </a:xfrm>
          <a:custGeom>
            <a:avLst/>
            <a:gdLst>
              <a:gd name="textAreaLeft" fmla="*/ 76320 w 457200"/>
              <a:gd name="textAreaRight" fmla="*/ 38124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6975" y="5400"/>
                </a:lnTo>
                <a:lnTo>
                  <a:pt x="5400" y="5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6975" y="16200"/>
                </a:lnTo>
                <a:lnTo>
                  <a:pt x="26975" y="5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6975" y="16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2375" h="21600">
                <a:moveTo>
                  <a:pt x="12162" y="6775"/>
                </a:moveTo>
                <a:lnTo>
                  <a:pt x="20212" y="10800"/>
                </a:lnTo>
                <a:lnTo>
                  <a:pt x="12162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6172200" y="3809880"/>
            <a:ext cx="457200" cy="304920"/>
          </a:xfrm>
          <a:custGeom>
            <a:avLst/>
            <a:gdLst>
              <a:gd name="textAreaLeft" fmla="*/ 76320 w 457200"/>
              <a:gd name="textAreaRight" fmla="*/ 38124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6975" y="5400"/>
                </a:lnTo>
                <a:lnTo>
                  <a:pt x="5400" y="5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6975" y="16200"/>
                </a:lnTo>
                <a:lnTo>
                  <a:pt x="26975" y="5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6975" y="16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2375" h="21600">
                <a:moveTo>
                  <a:pt x="12162" y="6775"/>
                </a:moveTo>
                <a:lnTo>
                  <a:pt x="20212" y="10800"/>
                </a:lnTo>
                <a:lnTo>
                  <a:pt x="12162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7391520" y="5105520"/>
            <a:ext cx="457200" cy="304560"/>
          </a:xfrm>
          <a:custGeom>
            <a:avLst/>
            <a:gdLst>
              <a:gd name="textAreaLeft" fmla="*/ 75960 w 457200"/>
              <a:gd name="textAreaRight" fmla="*/ 381240 w 457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7013" y="5400"/>
                </a:lnTo>
                <a:lnTo>
                  <a:pt x="5400" y="5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7013" y="16200"/>
                </a:lnTo>
                <a:lnTo>
                  <a:pt x="27013" y="5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7013" y="16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2413" h="21600">
                <a:moveTo>
                  <a:pt x="12181" y="6775"/>
                </a:moveTo>
                <a:lnTo>
                  <a:pt x="20231" y="10800"/>
                </a:lnTo>
                <a:lnTo>
                  <a:pt x="12181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logo_PO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380880"/>
            <a:ext cx="5786640" cy="6172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8080" y="68580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. Generacja siatki obliczeniowej dla metody elementów skończony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304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Obliczenia i wizualizacja wynik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rcRect l="0" t="0" r="38761" b="0"/>
          <a:stretch/>
        </p:blipFill>
        <p:spPr>
          <a:xfrm>
            <a:off x="4267080" y="1828800"/>
            <a:ext cx="4343400" cy="4230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rcRect l="18780" t="5591" r="79031" b="91609"/>
          <a:stretch/>
        </p:blipFill>
        <p:spPr>
          <a:xfrm>
            <a:off x="6400800" y="762120"/>
            <a:ext cx="247680" cy="23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3886200" y="1828800"/>
          <a:ext cx="4648320" cy="458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1828800"/>
                    <a:ext cx="464832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838080" y="9907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6600"/>
                </a:solidFill>
                <a:latin typeface="Times New Roman"/>
              </a:rPr>
              <a:t>2. Sol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6"/>
          <a:srcRect l="20954" t="5591" r="76869" b="91609"/>
          <a:stretch/>
        </p:blipFill>
        <p:spPr>
          <a:xfrm>
            <a:off x="1905120" y="1066680"/>
            <a:ext cx="247680" cy="238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38080" y="12952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3. Uruchomienie postproces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7"/>
          <a:srcRect l="23205" t="5591" r="74602" b="91609"/>
          <a:stretch/>
        </p:blipFill>
        <p:spPr>
          <a:xfrm>
            <a:off x="3429000" y="1295280"/>
            <a:ext cx="247680" cy="238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762120" y="1752480"/>
            <a:ext cx="802008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logo_PO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380880"/>
            <a:ext cx="5786640" cy="6172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3520" y="38088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TRYBY PRACY POSTPROCES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3658" t="5556" r="94065" b="91624"/>
          <a:stretch/>
        </p:blipFill>
        <p:spPr>
          <a:xfrm>
            <a:off x="990720" y="990720"/>
            <a:ext cx="247680" cy="237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rcRect l="16078" t="23268" r="81552" b="73829"/>
          <a:stretch/>
        </p:blipFill>
        <p:spPr>
          <a:xfrm>
            <a:off x="990720" y="1447920"/>
            <a:ext cx="247680" cy="237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rcRect l="18451" t="23268" r="79268" b="73829"/>
          <a:stretch/>
        </p:blipFill>
        <p:spPr>
          <a:xfrm>
            <a:off x="990720" y="1905120"/>
            <a:ext cx="237960" cy="237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295280" y="9907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artości w punkcie (point values mode)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144792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artości wzdłuż konturu (contour mode)</a:t>
            </a:r>
            <a:r>
              <a:rPr b="0" lang="pl-PL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19051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artości w bloku  (block mode)</a:t>
            </a:r>
            <a:r>
              <a:rPr b="0" lang="pl-PL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rcRect l="47175" t="84547" r="50917" b="12968"/>
          <a:stretch/>
        </p:blipFill>
        <p:spPr>
          <a:xfrm>
            <a:off x="990720" y="3048120"/>
            <a:ext cx="247680" cy="247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3520" y="236232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Opcje </a:t>
            </a:r>
            <a:r>
              <a:rPr b="1" i="1" lang="en-US" sz="1600" spc="-1" strike="noStrike">
                <a:solidFill>
                  <a:srgbClr val="ff33cc"/>
                </a:solidFill>
                <a:latin typeface="Times New Roman"/>
              </a:rPr>
              <a:t>post</a:t>
            </a:r>
            <a:r>
              <a:rPr b="1" i="1" lang="en-US" sz="1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procesora dotyczące graficznego przedstawiania wyników obliczeń</a:t>
            </a:r>
            <a:r>
              <a:rPr b="1" lang="en-US" sz="16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6"/>
          <a:srcRect l="49160" t="84547" r="48979" b="12968"/>
          <a:stretch/>
        </p:blipFill>
        <p:spPr>
          <a:xfrm>
            <a:off x="990720" y="3505320"/>
            <a:ext cx="247680" cy="247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rcRect l="51117" t="84547" r="46968" b="12968"/>
          <a:stretch/>
        </p:blipFill>
        <p:spPr>
          <a:xfrm>
            <a:off x="990720" y="3962520"/>
            <a:ext cx="247680" cy="247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rcRect l="15576" t="5556" r="82176" b="91604"/>
          <a:stretch/>
        </p:blipFill>
        <p:spPr>
          <a:xfrm>
            <a:off x="990720" y="4419720"/>
            <a:ext cx="247680" cy="2379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371600" y="304812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iatka obliczeniowa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350532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inie rozkładu pola (contour plot)</a:t>
            </a:r>
            <a:r>
              <a:rPr b="0" lang="pl-PL" sz="1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39625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ęstość pola  (density plot)</a:t>
            </a:r>
            <a:r>
              <a:rPr b="0" lang="pl-PL" sz="1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441972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wykresy X-Y (line plots)</a:t>
            </a:r>
            <a:r>
              <a:rPr b="0" lang="pl-PL" sz="1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9"/>
          <a:srcRect l="3757" t="4889" r="42488" b="8761"/>
          <a:stretch/>
        </p:blipFill>
        <p:spPr>
          <a:xfrm>
            <a:off x="4419720" y="1066680"/>
            <a:ext cx="4362480" cy="4038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rcRect l="64085" t="32081" r="3052" b="10894"/>
          <a:stretch/>
        </p:blipFill>
        <p:spPr>
          <a:xfrm>
            <a:off x="5410080" y="160020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1"/>
          <a:srcRect l="0" t="0" r="41552" b="0"/>
          <a:stretch/>
        </p:blipFill>
        <p:spPr>
          <a:xfrm>
            <a:off x="4267080" y="914400"/>
            <a:ext cx="4743720" cy="4676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2"/>
          <a:srcRect l="0" t="0" r="41552" b="0"/>
          <a:stretch/>
        </p:blipFill>
        <p:spPr>
          <a:xfrm>
            <a:off x="4267080" y="914400"/>
            <a:ext cx="4743720" cy="4676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3"/>
          <a:srcRect l="0" t="0" r="41552" b="0"/>
          <a:stretch/>
        </p:blipFill>
        <p:spPr>
          <a:xfrm>
            <a:off x="4267080" y="914400"/>
            <a:ext cx="4743720" cy="4676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4"/>
          <a:srcRect l="0" t="0" r="41552" b="0"/>
          <a:stretch/>
        </p:blipFill>
        <p:spPr>
          <a:xfrm>
            <a:off x="4267080" y="914400"/>
            <a:ext cx="4743720" cy="4676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5"/>
          <a:srcRect l="0" t="0" r="41552" b="0"/>
          <a:stretch/>
        </p:blipFill>
        <p:spPr>
          <a:xfrm>
            <a:off x="4267080" y="914400"/>
            <a:ext cx="4743720" cy="4676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6"/>
          <a:srcRect l="0" t="0" r="41552" b="0"/>
          <a:stretch/>
        </p:blipFill>
        <p:spPr>
          <a:xfrm>
            <a:off x="4267080" y="914400"/>
            <a:ext cx="4743720" cy="4676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7"/>
          <a:srcRect l="0" t="0" r="41552" b="0"/>
          <a:stretch/>
        </p:blipFill>
        <p:spPr>
          <a:xfrm>
            <a:off x="4267080" y="914400"/>
            <a:ext cx="4743720" cy="4676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8"/>
          <a:stretch/>
        </p:blipFill>
        <p:spPr>
          <a:xfrm>
            <a:off x="4267080" y="914400"/>
            <a:ext cx="4667400" cy="498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4267080" y="914400"/>
          <a:ext cx="4724640" cy="5029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67080" y="914400"/>
                    <a:ext cx="47246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logo_PO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380880"/>
            <a:ext cx="5786640" cy="6172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14400" y="533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OBLICZ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10666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cc"/>
                </a:solidFill>
                <a:latin typeface="Times New Roman"/>
              </a:rPr>
              <a:t>1. Rozwiązanie analityczne problem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toroid" descr=""/>
          <p:cNvPicPr/>
          <p:nvPr/>
        </p:nvPicPr>
        <p:blipFill>
          <a:blip r:embed="rId2"/>
          <a:srcRect l="15173" t="28194" r="25260" b="14275"/>
          <a:stretch/>
        </p:blipFill>
        <p:spPr>
          <a:xfrm>
            <a:off x="3429000" y="2362320"/>
            <a:ext cx="516240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143000" y="1600200"/>
                <a:ext cx="7621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066680" y="2286000"/>
                <a:ext cx="12956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μ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066680" y="2971800"/>
                <a:ext cx="18288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Φ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ad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d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066680" y="3581280"/>
                <a:ext cx="228600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iza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iza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066680" y="4419720"/>
                <a:ext cx="19051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zΦ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66680" y="5257800"/>
                <a:ext cx="1828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μ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logo_PO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380880"/>
            <a:ext cx="5786640" cy="6172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38080" y="45720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99cc"/>
                </a:solidFill>
                <a:latin typeface="Times New Roman"/>
              </a:rPr>
              <a:t>2. Wykorzystanie  do obliczeń środowiska F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838080"/>
            <a:ext cx="40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Times New Roman"/>
              </a:rPr>
              <a:t>2.1. Obliczenia ze strumie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5146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Times New Roman"/>
              </a:rPr>
              <a:t>2.2. Obliczenia z koenerg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44956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Times New Roman"/>
              </a:rPr>
              <a:t>2.3 Obliczenia z potencjału wektorow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rcRect l="23708" t="2748" r="23708" b="22303"/>
          <a:stretch/>
        </p:blipFill>
        <p:spPr>
          <a:xfrm>
            <a:off x="4419720" y="1905120"/>
            <a:ext cx="4267080" cy="3504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6240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990720" y="1905120"/>
                <a:ext cx="114300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4343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43200" y="1752480"/>
                <a:ext cx="762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371600" y="1219320"/>
                <a:ext cx="3031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1447920" y="15238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1981080"/>
            <a:ext cx="381240" cy="152640"/>
          </a:xfrm>
          <a:prstGeom prst="rightArrow">
            <a:avLst>
              <a:gd name="adj1" fmla="val 50000"/>
              <a:gd name="adj2" fmla="val 624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295280" y="297180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143000" y="3657600"/>
                <a:ext cx="9414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743200" y="3657600"/>
                <a:ext cx="8380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2209680" y="396252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33526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rcRect l="21832" t="8145" r="21832" b="21795"/>
          <a:stretch/>
        </p:blipFill>
        <p:spPr>
          <a:xfrm>
            <a:off x="4114800" y="2133720"/>
            <a:ext cx="4572000" cy="3276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rcRect l="22772" t="0" r="23708" b="20671"/>
          <a:stretch/>
        </p:blipFill>
        <p:spPr>
          <a:xfrm>
            <a:off x="4114800" y="1752480"/>
            <a:ext cx="4343400" cy="3710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rcRect l="23708" t="0" r="23708" b="20671"/>
          <a:stretch/>
        </p:blipFill>
        <p:spPr>
          <a:xfrm>
            <a:off x="4114800" y="1752480"/>
            <a:ext cx="4267080" cy="3710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rcRect l="23708" t="0" r="23708" b="22303"/>
          <a:stretch/>
        </p:blipFill>
        <p:spPr>
          <a:xfrm>
            <a:off x="4114800" y="1752480"/>
            <a:ext cx="4267080" cy="3633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100160" y="4952880"/>
                <a:ext cx="14335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dV</m:t>
                            </m:r>
                          </m:e>
                        </m:nary>
                      </m:num>
                      <m:den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7"/>
          <a:srcRect l="23708" t="0" r="23708" b="22303"/>
          <a:stretch/>
        </p:blipFill>
        <p:spPr>
          <a:xfrm>
            <a:off x="4114800" y="1752480"/>
            <a:ext cx="4267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logo_PO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380880"/>
            <a:ext cx="5786640" cy="61722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362320" y="685800"/>
            <a:ext cx="48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Times New Roman"/>
              </a:rPr>
              <a:t>Wyniki obliczeń dla cewki z rdzeniem bez szczeli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5181480"/>
            <a:ext cx="541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cc99"/>
                </a:solidFill>
                <a:latin typeface="Times New Roman"/>
              </a:rPr>
              <a:t>Zależność indukcyjności własnej cewki od gęstości prądu w uzwojen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5257800"/>
            <a:ext cx="5333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cc99"/>
                </a:solidFill>
                <a:latin typeface="Times New Roman"/>
              </a:rPr>
              <a:t>Rozbieżności dla poszczególnych metod obliczeniowy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685800"/>
            <a:ext cx="6400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Times New Roman"/>
              </a:rPr>
              <a:t>Wyniki obliczeń dla cewki z rdzeniem  wraz ze szczeliną powietrzn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5257800"/>
            <a:ext cx="5410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cc99"/>
                </a:solidFill>
                <a:latin typeface="Times New Roman"/>
              </a:rPr>
              <a:t>Zależność indukcyjności własnej cewki od gęstości prądu w uzwojen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5257800"/>
            <a:ext cx="5334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cc99"/>
                </a:solidFill>
                <a:latin typeface="Times New Roman"/>
              </a:rPr>
              <a:t>Rozbieżności dla poszczególnych metod obliczeniowy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133720" y="1295280"/>
            <a:ext cx="5333760" cy="4000680"/>
            <a:chOff x="2133720" y="1295280"/>
            <a:chExt cx="5333760" cy="4000680"/>
          </a:xfrm>
        </p:grpSpPr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2133720" y="1295280"/>
              <a:ext cx="5333760" cy="40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495680" y="5029200"/>
              <a:ext cx="990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J [MA/m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057400" y="1295280"/>
            <a:ext cx="5333760" cy="4010400"/>
            <a:chOff x="2057400" y="1295280"/>
            <a:chExt cx="5333760" cy="4010400"/>
          </a:xfrm>
        </p:grpSpPr>
        <p:pic>
          <p:nvPicPr>
            <p:cNvPr id="187" name="" descr=""/>
            <p:cNvPicPr/>
            <p:nvPr/>
          </p:nvPicPr>
          <p:blipFill>
            <a:blip r:embed="rId3"/>
            <a:stretch/>
          </p:blipFill>
          <p:spPr>
            <a:xfrm>
              <a:off x="2057400" y="1295280"/>
              <a:ext cx="5333760" cy="40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419360" y="5029200"/>
              <a:ext cx="990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 [MA/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133720" y="1295280"/>
            <a:ext cx="5333760" cy="4010400"/>
            <a:chOff x="2133720" y="1295280"/>
            <a:chExt cx="5333760" cy="4010400"/>
          </a:xfrm>
        </p:grpSpPr>
        <p:pic>
          <p:nvPicPr>
            <p:cNvPr id="190" name="" descr=""/>
            <p:cNvPicPr/>
            <p:nvPr/>
          </p:nvPicPr>
          <p:blipFill>
            <a:blip r:embed="rId4"/>
            <a:stretch/>
          </p:blipFill>
          <p:spPr>
            <a:xfrm>
              <a:off x="2133720" y="1295280"/>
              <a:ext cx="5333760" cy="40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4495680" y="5029200"/>
              <a:ext cx="990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 [MA/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133720" y="1295280"/>
            <a:ext cx="5333760" cy="4010400"/>
            <a:chOff x="2133720" y="1295280"/>
            <a:chExt cx="5333760" cy="4010400"/>
          </a:xfrm>
        </p:grpSpPr>
        <p:pic>
          <p:nvPicPr>
            <p:cNvPr id="193" name="" descr=""/>
            <p:cNvPicPr/>
            <p:nvPr/>
          </p:nvPicPr>
          <p:blipFill>
            <a:blip r:embed="rId5"/>
            <a:stretch/>
          </p:blipFill>
          <p:spPr>
            <a:xfrm>
              <a:off x="2133720" y="1295280"/>
              <a:ext cx="5333760" cy="40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495680" y="5029200"/>
              <a:ext cx="990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 [MA/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6:34:44Z</dcterms:created>
  <dc:creator>Jasiek</dc:creator>
  <dc:description/>
  <dc:language>en-US</dc:language>
  <cp:lastModifiedBy>Jacek</cp:lastModifiedBy>
  <dcterms:modified xsi:type="dcterms:W3CDTF">2004-04-14T07:51:17Z</dcterms:modified>
  <cp:revision>44</cp:revision>
  <dc:subject/>
  <dc:title>Prezentacja programu PowerPoint</dc:title>
</cp:coreProperties>
</file>